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86F-043E-4E07-A547-202F633B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262-8E1E-4FF6-B9EE-E29B66EE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C2F-769C-4010-8DF4-815E8E13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00D-9D76-456C-B054-B2F437CB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D8C3-96C1-41AB-9BF8-DEA9ED7F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9DA7-BBD2-4512-B529-D193D9BA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DDBE-9762-4DD1-B93E-F6F49255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CABF-EB9C-4324-A532-BB1CB577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4225-1537-4CD1-AEE8-3DCC1101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08A4-66E9-43B4-AB6D-719A07AF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8A84-C002-4E4D-A0A1-AE365829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3E3-B68E-4E8B-9CBA-F4C87E0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5D764-86ED-44DD-A6F6-55BC773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AC22-F3B5-4FB1-B1A9-0E6CBE1E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C0B4-D2EF-4D97-99A9-CCD28A3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219F-6DC1-4A3C-B99E-BF0447C6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554D-BDED-44A6-917C-48A98456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1F0-2A68-4DBD-A1EB-A6D808E3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F04-41F9-474B-84D9-E2D34640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0F2-648D-4795-979B-7CEB8403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CCE-EB42-4D73-A8F3-4B89918C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A53B-D905-417E-A126-F6FDBE6B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30C8-20F0-41F4-818A-DF68E95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9CE-D460-48C0-BAAD-D744971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B2A7-9591-490D-B862-8B5071AAC4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CAC8-C9ED-4DDD-89F6-473031DC20D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llez, viens! – Level 2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itre 8 – Deuxième Ét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rappe les mouch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ffcc"/>
                </a:solidFill>
                <a:latin typeface="Tahoma"/>
              </a:rPr>
              <a:t>Choisissez la bon conjugaison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3828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a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0" y="13716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i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3828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i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a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0" y="266688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860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64832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0" y="396252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i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u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tr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52578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s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FPS</cp:lastModifiedBy>
  <dcterms:modified xsi:type="dcterms:W3CDTF">2008-04-02T11:31:55Z</dcterms:modified>
  <cp:revision>38</cp:revision>
  <dc:subject/>
  <dc:title>Allez, viens! – Level 2</dc:title>
</cp:coreProperties>
</file>